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982-A42C-45E5-AA31-BBA7B77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AE3-E197-49FD-91F9-4C302156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EB6-FF0A-408A-A3D1-DE376415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DF6-B9CF-4174-AD0A-3C39001B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021-3BC5-4734-B802-8B1FF965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694-084E-46CA-83C5-D320F7D2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44BE-BA94-436D-900B-6DFBD275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BFB-6351-4BD4-A6A7-1D3E5E2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0CE8-A155-4726-9F13-FDDF71B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C0F0-BCED-4248-A3F0-BCD90B8F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A790-993F-4ED1-8B12-8BD98A0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3B0-2B5F-4FCA-A320-E50DD21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28D7-3A34-45F1-A7A9-3EE7F5A8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1711-AA93-481F-96DC-DCCF6253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0DDC-ED87-4F07-8C9C-D8EC593C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3DC0-8303-407A-8277-3EE816F7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D54-1814-4D3F-9857-4F1A48A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1A995-87EC-4EE4-B25A-0DA3F742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A6A7-D699-4244-BCA8-D5D611A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68503-1257-46E3-8847-EEBD158B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A784-9347-4302-9F0E-68D416B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5C3F-8F32-4865-947E-4F7384C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8F0-80EE-4BE4-806B-476F64D7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5FB9-32BC-43A4-8598-CFDA205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6E93-9B19-4D28-B44F-170CB2CD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497C-F4AE-4DC3-BBEA-110CC13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8136-8D26-4F66-B3B4-8505B1D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5185-F018-4E17-8A11-3A26105A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EC03-C14E-4928-AD56-C59D1143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B93C-DF2E-4E25-BD94-44BA0617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F435-DCA6-4326-B5A4-7EC583DC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99065-2D08-4903-8B62-2D703C9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908F-797E-4A29-A1BA-E1851E2B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44B-CA33-4710-AA46-189DBC69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A6DC-8A61-44B5-943B-2B72594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6CFB-20BF-4052-8034-A5B46867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C99B-350B-412A-B6C8-D43ACB2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6735-35D0-443C-9CF1-2341A31F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91EC-979A-42D0-9960-E9411A38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9BA3-B216-4246-AAA7-AE08DAE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A8313-CE55-4220-AF26-3AC35EF7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5B91-3F6F-4409-B959-E6B58A1D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9964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91320" y="215064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796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9964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91320" y="469800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2B10-1F23-4558-B6FE-30072F84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3EC-E207-4EE0-8F98-1DC790AF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782640"/>
            <a:ext cx="91440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AC3-BBAF-44AB-A36E-8B5C806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B82-E2C9-4BA0-9E0D-752FDD0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69800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7A6-C068-46FE-B1A9-6E6A09C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215064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69800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D1C-37C8-4204-A010-8E1BC57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36A7-FA93-4A79-B764-A453417C62CF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76A-5AC2-45AA-9AF5-C6CC45797028}" type="slidenum">
              <a:rPr b="0" lang="en-US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69000" y="-792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5360"/>
            <a:ext cx="10199880" cy="720720"/>
            <a:chOff x="-20520" y="225360"/>
            <a:chExt cx="10199880" cy="7207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5360"/>
              <a:ext cx="10175400" cy="720720"/>
              <a:chOff x="-20520" y="225360"/>
              <a:chExt cx="10175400" cy="7207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5360"/>
                <a:ext cx="1014948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32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7920"/>
              <a:ext cx="10199880" cy="623160"/>
              <a:chOff x="-20520" y="277920"/>
              <a:chExt cx="10199880" cy="62316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7920"/>
                <a:ext cx="10182240" cy="6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82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805960" y="7062840"/>
            <a:ext cx="846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0759-3C7F-468C-87C8-AE99B5DD4FD2}" type="slidenum">
              <a:rPr b="0" lang="en-US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517920" y="1230840"/>
            <a:ext cx="5842080" cy="4572360"/>
          </a:xfrm>
          <a:custGeom>
            <a:avLst/>
            <a:gdLst>
              <a:gd name="textAreaLeft" fmla="*/ 0 w 5842080"/>
              <a:gd name="textAreaRight" fmla="*/ 5758920 w 5842080"/>
              <a:gd name="textAreaTop" fmla="*/ -360 h 4572360"/>
              <a:gd name="textAreaBottom" fmla="*/ 4572360 h 4572360"/>
            </a:gdLst>
            <a:ahLst/>
            <a:rect l="textAreaLeft" t="textAreaTop" r="textAreaRight" b="textAreaBottom"/>
            <a:pathLst>
              <a:path w="5842000" h="4572000">
                <a:moveTo>
                  <a:pt x="0" y="0"/>
                </a:moveTo>
                <a:lnTo>
                  <a:pt x="5675305" y="0"/>
                </a:lnTo>
                <a:lnTo>
                  <a:pt x="5842000" y="166695"/>
                </a:lnTo>
                <a:lnTo>
                  <a:pt x="5842000" y="4572000"/>
                </a:lnTo>
                <a:lnTo>
                  <a:pt x="0" y="457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893080" y="5953680"/>
            <a:ext cx="173160" cy="173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10800" y="6462000"/>
            <a:ext cx="10182240" cy="1157400"/>
          </a:xfrm>
          <a:custGeom>
            <a:avLst/>
            <a:gdLst>
              <a:gd name="textAreaLeft" fmla="*/ 0 w 10182240"/>
              <a:gd name="textAreaRight" fmla="*/ 10182600 w 10182240"/>
              <a:gd name="textAreaTop" fmla="*/ -360 h 1157400"/>
              <a:gd name="textAreaBottom" fmla="*/ 1157400 h 11574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869000" y="6909840"/>
            <a:ext cx="5290920" cy="709560"/>
          </a:xfrm>
          <a:custGeom>
            <a:avLst/>
            <a:gdLst>
              <a:gd name="textAreaLeft" fmla="*/ 0 w 5290920"/>
              <a:gd name="textAreaRight" fmla="*/ 5291280 w 5290920"/>
              <a:gd name="textAreaTop" fmla="*/ -360 h 709560"/>
              <a:gd name="textAreaBottom" fmla="*/ 709560 h 7095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9560" indent="-272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14480" indent="-273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19040" indent="-23328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23960" indent="-23328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23960" indent="-23328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63520" y="7062840"/>
            <a:ext cx="37242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73720" y="7062840"/>
            <a:ext cx="67788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C0A1-2114-468A-A094-A2A237364599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" descr=""/>
          <p:cNvPicPr/>
          <p:nvPr/>
        </p:nvPicPr>
        <p:blipFill>
          <a:blip r:embed="rId1"/>
          <a:stretch/>
        </p:blipFill>
        <p:spPr>
          <a:xfrm>
            <a:off x="853920" y="2822400"/>
            <a:ext cx="8466120" cy="160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taphors made easy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ind what is similar between two things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42640" y="1824120"/>
            <a:ext cx="96742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are two things that seem unrelated be alike?!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instance, How is a dishwasher like a tree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the tree and dishwasher both need water and they clean th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ways is a hot dog like a shoe?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The hot dog and the shoe are both made from animals, and go with another object (a shoe with a foot and a hot dog with a bun)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gratulations you made two more analogies or metapho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What are the two things being compared? &amp; what is similar between them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cBride fell 12 stories, hitting the pavement like a Hefty bag filled with vegetable soup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e plan was simple, like my brother-in-law Phil. But unlike Phil, this plan just might work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Her hair glistened in the rain like a nose hair after a sneez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e hailstones leaped from the pavement, just like maggots when you fry them in hot greas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entify what is being compared and what are the metaphors:</a:t>
            </a: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Dream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- by Langston Hugh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ld fast to dream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if dreams di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fe is a broken-winged bir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at cannot fl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ld fast to drea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when dreams go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fe is a barren or empty fiel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zen with snow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. Lincoln Brower has studied the monarchs in their wintering sanctuaries for 20 years. Whenever he describes the monarchs' winter habitat, he uses this analogy or metaphor: "The forest serves as an umbrella and a blanket for the monarchs."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 individually or in pairs to think about the analogies or metaphors he uses and explain in writing what these reveal about how the forest helps monarchs survi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**Be aware, however, that when analogies or metaphors are stretched too far, they can lead to misconceptions!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ith a partner :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few sentences for each question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metaphors and how are they used in literature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What makes a metaphor effective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at least two metaphors.  Have fun with it!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7960" y="21506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photos from Creative comm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mexican flag – kalavinka on Flic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peeing in toliet – villevenalainen on Flic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3120" indent="-303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ny metaphors from: http://www.mikekerr.com/humour-resources/free-articles/2222/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74280" cy="10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gurative Language: word or phrase that represents or describes something else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2640" y="1824120"/>
            <a:ext cx="96742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aphors are a type of Figurative Languag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aphors are a combination of both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representing something – like a symbo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finding what is similar between two things –describing th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relationship between the two th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taphors make stories &amp; poems more interesting and are often used in other forms of writing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5" descr="3584441545_94bd3b28e1.jpg"/>
          <p:cNvPicPr/>
          <p:nvPr/>
        </p:nvPicPr>
        <p:blipFill>
          <a:blip r:embed="rId1"/>
          <a:stretch/>
        </p:blipFill>
        <p:spPr>
          <a:xfrm>
            <a:off x="1905120" y="4495680"/>
            <a:ext cx="6350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s - something that stands for or represents another thing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42640" y="1824120"/>
            <a:ext cx="967428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tar in the texas flag is a symbol of the lone star sta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kull and cross bones on a sign symbolizes what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03040" y="1523880"/>
            <a:ext cx="50752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284040" y="4267080"/>
            <a:ext cx="685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actice: metaphors are </a:t>
            </a: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symbol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 star &amp; stripes in the U.S. Flag represent or symbolize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'Light' in literature is a symbol or metaphor fo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d, wisdom, purity, virt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'A path or road' in literature is a symbol or metaphor for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you live your life.  Your path in lif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n? 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od, wisdom, enlightenment or self-knowledge, virtu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loset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ding something, fear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78264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5076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xican flag -with the eagle eating the snake? What does a snake symbolize or what is it a metaphor for?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How is it a symbol or metaphor for peac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3263818451_729a36f82e.jpg"/>
          <p:cNvPicPr/>
          <p:nvPr/>
        </p:nvPicPr>
        <p:blipFill>
          <a:blip r:embed="rId1"/>
          <a:stretch/>
        </p:blipFill>
        <p:spPr>
          <a:xfrm>
            <a:off x="279360" y="2475000"/>
            <a:ext cx="96775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metaphor is a word or a phrase used to describe something as if it were something els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"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error washed over him."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terror isn’t actually a wave, but a wave is a good way of describing the feeling of terror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"A wave of terror washed over him."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1625760"/>
            <a:ext cx="9956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t out a dollar bill.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42640" y="990360"/>
            <a:ext cx="9674280" cy="64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aphors are in many places. They are used in the Great Seal of the United State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pyramid on the left the eye at top is a symbol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’s eye or the all knowing eye.” They put that there b/c we are the firs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world that was established based in reason and not just on the basis of warf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3 ranges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Great Seal of the United States are symbol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inscription at the bottom is : roman numerals - 1776 represent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vus Ordo Seclorum - a new world order is a metaphor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nuit Coeptis- He or the eye has smiled on our accomplishments is a metaphor for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How do Metaphors work?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2640" y="1824120"/>
            <a:ext cx="967428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</a:rPr>
              <a:t>Analogi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Analogies are metaphor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ogy =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making comparison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finding similariti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tween two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ilar thing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are a zebra to a newspaper and find what is similar between them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both are black and white. 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gratulations! You just made an analogy or metaphor of a zebra and a newspaper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dscj</cp:lastModifiedBy>
  <dcterms:modified xsi:type="dcterms:W3CDTF">2011-08-02T00:54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VFhdmIg5JfmaTjq5o-qYGsZpvkDiLT9RS4Wwbqcez9U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154.5604</vt:lpwstr>
  </property>
  <property fmtid="{D5CDD505-2E9C-101B-9397-08002B2CF9AE}" pid="5" name="Google.Documents.PreviousRevisionId">
    <vt:lpwstr>03412647748722267510</vt:lpwstr>
  </property>
  <property fmtid="{D5CDD505-2E9C-101B-9397-08002B2CF9AE}" pid="6" name="Google.Documents.RevisionId">
    <vt:lpwstr>12332253881106221903</vt:lpwstr>
  </property>
  <property fmtid="{D5CDD505-2E9C-101B-9397-08002B2CF9AE}" pid="7" name="Google.Documents.Tracking">
    <vt:lpwstr>true</vt:lpwstr>
  </property>
</Properties>
</file>